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dt" idx="5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ftr" idx="5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 type="sldNum" idx="6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059-1D80-4D10-9993-17A5CD3D8AC8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FC37-65CA-4D52-AF75-553FD0CDE564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BB8-D7F7-4539-A68E-0A10D608B44F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100E-883C-4553-813E-EE166D9F6947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BBA-DBC6-427D-8051-6F13DE49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DEA-E7BC-4D4D-A2D8-63D22255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572DE-51F3-4FE6-B66D-535589A0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30E1-8EBC-4766-A116-AC36417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1D8D-A960-4438-8547-772C0EA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22C0B-230C-43FF-9174-DD0CDB8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09395-B00E-4F34-BB70-084982A3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5024B-DE5A-47BD-957B-C8AA7D5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2BB8A-30F2-4EE6-8236-1E34600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0BA6B-ED02-4E9F-A480-EF09F431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8200E-7987-4A20-8392-1D8B1910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DB59-A69C-4349-8AA4-EDC66BE7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76E-6972-4BE8-8283-EA2C9BCA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BA09B-B528-4873-A0AA-3E842A6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0AEF-5297-44A3-A04F-311D3C5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13726-6DBB-4250-AB36-A4BDFCC5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DC3EF-9E4A-4CE9-847E-43E752DC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031A7-BBD6-44B8-B3CB-19F7EFE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F9AC4-28D7-47F5-9C58-D59F8F4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14CBA-7D52-40F1-822B-F0592F8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4E54-BE0A-4057-A69B-D7B78F1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3352-50C2-44E9-A8F1-50BA1219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96C3-A0C8-4D2A-964D-CB9BCC3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6D6-F08F-4D1D-8041-E181E4C9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738C-7E08-409E-B8A1-30F9E47B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CE0C-A41C-4FF0-806C-488CB4BE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6C9BE-A68B-4748-988C-361238D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06F8B-97F4-4992-93FB-D717F4D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76BB-2E48-460D-A6DD-F8DB617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9D69-8CC9-4792-BC18-6A5E897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9F73-03DE-46CD-9231-775FED33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1CB02-6276-414A-8305-2030530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398B-6CA6-4DFB-997A-D0BDCD2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D8DF1-8920-433A-91C1-2F4EC1B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C89-7281-47EB-AAA2-766C4BAC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96F89-1274-4881-B4A7-74790C23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EB3C-99FF-4196-9F21-74F76B5F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E129C-7FB2-4580-9E8D-97FEE006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34B3E-455C-4363-A47E-CA23661E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9DF7-16B5-449C-ADF7-47B063A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57909-1EDE-4FB1-A3A2-F96FB6A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8A74D-42D3-45E1-B7C8-018731B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565D0-E4CE-432B-9ABB-96FD836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4D6D9-B084-40BC-8316-7383A3D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68F45-C8D0-4B11-BCDC-79E9BAD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CDE6-6018-49E6-8B9D-10BC045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E2B9B-C508-404A-B8A9-9589043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B3600-3AE7-4FFD-8776-C4184BB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9B792-1594-4149-B86D-21693453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A96A7-DF73-4E3A-92B5-1A815C47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03375-349F-4C9E-B0FE-56B5370A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5B2C1-AF1C-4BA7-B156-049FA3EA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FD565-0726-4A69-A970-3467F8F3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BC025-EA9F-42D4-88E8-3F407A38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7B81B-8DD2-49EC-88E1-3D6FB299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3B5F7-3A20-45A8-92F0-84B5762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D32-D269-4543-B5E5-4CC4F91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6AFED-5437-4C58-AC01-AC6B93D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C3EB9-026E-48D8-BE9C-E04EE43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36A78-45C8-4548-BCDD-71F5094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DB76B-EE9C-49DE-BA8A-A65A0A9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4C7AD-0DEA-496D-AC2F-DB93A5D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38B64-A26F-4FCC-97ED-CD9C70B8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2B213-0C26-416D-AAE3-F8EA26BA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1DD20-548B-45E8-A5D9-A9C24008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3E52A-0D08-49DB-82D0-06E0B2C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3DDFD-9096-4C8E-BEE8-A2217C9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445-63BE-460A-BF9F-13B5260F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57FEB-1C61-416A-AAD8-B3D2106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57FD8-9F1B-4C51-8C9E-2EC4CEDE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E66F8-C923-409B-8327-27EB3E23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9C7BC-7C3C-4930-8414-E9B4694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94E0B-1781-4F8D-A17A-024F4ADF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5D899-6B52-4B6A-830F-70E6C60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B5F98-8321-4B7E-AD5B-16FAB4D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C6127-9DDB-44BA-98C3-6F54E9C8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6CC00-6094-4D4E-B3EF-DE913E1A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F2217-3255-4BAA-858D-B4BB69E5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8FA-F175-45C9-97E8-A0D40D1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AF9F6-9E70-4C3C-B93B-49EEF86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85B8B-6DD6-43D1-A358-7E04E42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6A5A1-FF8D-4E8A-A45E-A6B53B0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B7A45-7DCE-456A-9F55-DDEE526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953A6-097A-4DFB-BBDC-017CAE1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16412-787B-43E0-AB35-E97790C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5DF16-CACC-483A-A1F3-BFE8B8E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45BF2-C039-466B-9380-69B459E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B3DC2-93BD-4EDA-A3FE-92A9FD18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98DFC-7E99-4B02-9298-B20BB081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A624-C99B-4622-96B3-E20BE43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6322D-4831-4214-9E79-20F34D92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9BAB7-C5B0-4005-BD37-D22E5974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1FFA7-CB88-4D67-A603-720B50BB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F46E6-B53F-4A03-BACA-4449661E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AFA10-68CF-4201-BE0E-6A6DF508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A0901-5880-4DA4-90F4-69A50C88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010DC-BE48-41CE-B829-F51DCF42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2A16D-EFE9-4B9F-90A9-A5BCAAF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72C4B-B324-413C-9B2B-70347C6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CBB36-2FBC-4B05-838B-2A60666F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0933-6192-4B92-9B35-C1C7DCA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11C03-1274-45F5-829C-FC527AC3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EEE4E-CDA7-403D-A525-2A7A8C5A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CC26A-571C-4BE0-9C7E-76F72F68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83CDE-2148-47E0-9132-7E8CBBFF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63663-7F83-4BCA-BCB2-BCB662F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DEC6A-2EBA-49F8-9758-C73CFE6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A593F-9654-4515-8F7C-31C7B6B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F0BF3-E597-451B-91BF-4A093E0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B3CCA-226F-4B9A-AC10-C9485FB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D5207-D868-4529-92FE-BB48215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335-F2C5-4C95-8D77-4743D77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8D0-3A2D-48FF-BE96-AE6C063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8900F-B4F5-4B77-BA20-11A616A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61188-85EE-4B6A-8497-013368D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78046-B50C-4BB0-B912-3193DBF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8DE3D-2F70-4287-9FD1-C2D9B995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80867-1386-4D26-A0B4-CA72E623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D4BA3-27A4-455F-8AE4-43F2188D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64313-F54C-417F-87AE-1135A93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01162-C240-4332-B962-C2405243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1E9C2-4234-4EEF-A21A-1E2526C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60965-8752-4612-8051-0C7E542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C97-6812-4CC8-ABF5-230BA9E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F1FA4-D532-43E1-A077-3E9C135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52297-208C-437C-B710-DCE2FD8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306D3-A54A-475F-8E3B-68FB321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F34C0-8613-4706-82AF-96DF33C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F8C77-9F88-4CAE-8DF5-E74EDE0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C2E85-BF04-4880-949F-3DF9B0C2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9782D-6C49-4A20-9365-4FF3CC98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03AD3-DFB9-48FE-9685-BE41312E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79EE0-7C38-4325-B2DA-20F4A56A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71D6D-795E-483F-A4A6-547CF4C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CBA2-E0B1-4C97-9433-A888745B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68573-CAA0-42D4-AE5C-3917CF5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9B9A2-BF74-4B6C-A181-29DAE1C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BC561-BD64-4A38-966B-E1D8848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53142-2401-4D75-93C4-61B5F50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5AFA9-8F04-4843-B733-F2B8267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2CE5F-F214-437F-8D58-BC3AD2A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D7B05-CA5E-48FB-9961-709AC855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C818F-5B29-4A14-8A8E-8EA84AC6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C6F78-1237-4E67-ADE7-AAE0D180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8282-E4E3-42DC-98F4-1E7B3722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04A3-45D5-4AFB-B442-E75353C8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B4DC-F2C4-46FE-9010-D8D7B321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2342-9FF8-49DD-8958-99278869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F487-5A37-4F98-9FE2-11D8A05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7180-E37A-413A-A179-C8F6551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6930-5E96-4328-B5B4-F951CD4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D26-4108-449C-AAAE-6C5DB1EE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8B54-4432-4AC4-87AC-346E3700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A388-3B90-40C0-BF51-2339261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4DA71-472B-4877-B62B-D4E2033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20E5-AB1A-4373-8751-4FE9ABA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099F-E398-4138-9059-045D5B01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D537-5C19-4B4F-9C9D-AA392350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963A-2207-4C6D-8772-ABF472A1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0C8C-8497-4075-9522-5045DEBA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4723-613F-4AAC-B8C4-7805FD1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E48B-26E4-4EE0-947F-35927F78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D46-A9CB-4C8F-912B-E33922C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5E26-CD19-4620-9C98-E215230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40E9-132D-4276-8521-749D935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0D9C-945A-48B4-AE25-30F4431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5A98-46B7-4D3B-90AB-679BB03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1FC0-3A7C-4BC7-AD55-99B93B1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7AAB-BCCD-47B0-A40A-3E24E6A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5783-C54F-42AA-A412-A7C1F42E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5BCE-3765-484F-94B6-BDC23374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2D74-9939-4B92-BBA2-E4FF1B23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3DB9-04DD-4933-BBF6-D058982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8AB-FE39-4787-A6CB-43BA55B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F4C2-9DFD-4849-86DE-56E9EC12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6A89-C1F2-4917-AA1F-D7B3CBB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9972-24FC-4EC6-AECB-56EE95FB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8AC3-3747-4314-8645-03BDF71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92B4-155D-4067-9DCB-8EA0972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A580-C02D-414C-9B34-5988A85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40F9-6439-45C8-88BD-3B071A2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1EF8-A3E5-4EE8-89EB-DE33550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9BD1-D7F6-41CF-96F4-CF093FA3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EAD0-ED94-4D2A-B3F2-258CB688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4AA-C673-4863-BDD0-C06BC88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922B-1F0D-450B-8D11-E68775A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FF75-C0BB-429E-8D61-3E40B4ED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04DF-FD12-45D4-960A-039A5A98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3166-90D5-4D53-91C1-BADE397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83F1-5F59-41AA-9C9F-62B4EE1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50C7-C7D8-4BE5-ABF5-A330B7A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29ADA-9E81-4B20-9716-757C8DF5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00A0-CE0D-4934-BE26-65CCA0D1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FA21-0748-43AF-B84B-EF12DABF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2F3A-240E-4E51-BAC3-BCCDE9D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E42-771B-4AED-BD14-ED9C0B8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556A-AE48-48D1-A1C8-8AE0D39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9503-0C53-43B9-A5F0-2FBDA2AC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FE8B-24A9-4E84-A673-70E55C2D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4EEA9-2DF1-47A1-BF17-7B02AC5A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47F3F-DA4E-45A8-B1FA-491FFDB5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6E805-026F-4F88-85DB-A08AEF5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22E2A-09A2-437C-994B-4C2884D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7B09F-7BF3-48FA-A0CC-8F44AF25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11D59-3CB1-493D-9E5A-F51D025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44CA1-6451-4B42-897E-04D9BE9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476-5930-4309-AFB2-CDB73F8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80699-2C6F-4E1C-8CFE-1926020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B0392-D9B9-48BE-97AC-2458B8D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4DA0B-E0BD-4D98-9171-B89F0877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5AD66-FFCF-4E09-92FB-97A225B7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AEE10-2D1A-4889-9652-93DD5B6F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D182-8B5C-4C4D-8FAC-BA99794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8966-DB4D-4035-96C8-A812380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8A6F8-046B-453F-A89D-A9DE173F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9E9B-DD95-4F17-B12C-0826A78C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A57B-A6EF-4E19-97CF-017EB56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247-0C20-4227-AFEC-173D072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3A97-3444-404C-8CCA-DB0841A5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776ED-4BCB-47E4-944D-E69A52F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CCE50-D810-4557-8E87-017C94B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272BC-A376-425A-95F0-E4AAFD9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185B-EB54-40B3-A307-AC840507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CA238-E6FA-46EE-94CF-52BF2C16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699F-D2C2-492B-BFB5-5B073616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BCB59-F198-4653-83F3-8FFF9882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F59B5-180E-41D2-BA8B-DEE80B6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6D22C-B3FB-418E-B660-D27C904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1D5-5606-41E2-B6F5-E661E87BBC81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83A-5F06-475F-A393-09651559FAC5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61702A4E-A8D4-43AF-A722-0CE80D9AE034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0AB-EA45-4DD0-BA23-B208FEC38F2F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6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8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4D8F-690D-4D3D-AF48-2C63ED76DA6E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book24.jpg"/>
          <p:cNvPicPr/>
          <p:nvPr/>
        </p:nvPicPr>
        <p:blipFill>
          <a:blip r:embed="rId4"/>
          <a:stretch/>
        </p:blipFill>
        <p:spPr>
          <a:xfrm>
            <a:off x="5857920" y="1600200"/>
            <a:ext cx="3214800" cy="4829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image001.png"/>
          <p:cNvPicPr/>
          <p:nvPr/>
        </p:nvPicPr>
        <p:blipFill>
          <a:blip r:embed="rId5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6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. </a:t>
            </a:r>
            <a:fld id="{F45AF3D2-E8E0-491F-B79F-E4120C6E6505}" type="slidenum"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2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23"/>
          <p:cNvSpPr/>
          <p:nvPr/>
        </p:nvSpPr>
        <p:spPr>
          <a:xfrm>
            <a:off x="500040" y="1928880"/>
            <a:ext cx="8143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F3A-55D8-4886-8D4F-6AF34A508A01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94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2A6-98D8-4B58-817D-174856F4D284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4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5BF-BDD8-45FD-BEEE-79C0A2CF23A2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902-E933-4AF9-95E1-DD371C433036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DD3-41F7-4BDA-9D07-01B25E17B8FD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061-99E5-4F75-887F-03AC2632B6E6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6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8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19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ef5fa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def5fa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96F-34EA-41C8-8821-5F6C8F24B9CC}" type="slidenum">
              <a:rPr b="0" lang="fa-I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9021-0B86-48DB-BC48-84C59C0B00D0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9F2-8DF7-45FB-A5CB-BDEE83EE4AF7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1" lang="en-US" sz="50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DD3-F891-448B-86FA-9C18637C1B0D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0486-269A-48EF-A3C3-DBB4DDB2F944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9EFA6D26-6DF4-43DF-84C8-994696A855A8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BB57-623E-439C-B138-58FFC59EFC54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book114.jpg"/>
          <p:cNvPicPr/>
          <p:nvPr/>
        </p:nvPicPr>
        <p:blipFill>
          <a:blip r:embed="rId3"/>
          <a:stretch/>
        </p:blipFill>
        <p:spPr>
          <a:xfrm>
            <a:off x="5769000" y="1390680"/>
            <a:ext cx="3375000" cy="5068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image001.png"/>
          <p:cNvPicPr/>
          <p:nvPr/>
        </p:nvPicPr>
        <p:blipFill>
          <a:blip r:embed="rId4"/>
          <a:stretch/>
        </p:blipFill>
        <p:spPr>
          <a:xfrm>
            <a:off x="7929720" y="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7251120" y="51588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 </a:t>
            </a:r>
            <a:fld id="{4860A356-CBFC-46C7-A7DB-1F409E7DD3B0}" type="slidenum"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1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e6f5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669800" y="71424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3"/>
          <p:cNvSpPr/>
          <p:nvPr/>
        </p:nvSpPr>
        <p:spPr>
          <a:xfrm>
            <a:off x="1071720" y="1500120"/>
            <a:ext cx="6215040" cy="180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4429080" y="71424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8C2-6F0D-4209-B708-1AC64626E425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E3B-1BA7-4F7B-AE0A-9FBB684EB8C5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image001.png"/>
          <p:cNvPicPr/>
          <p:nvPr/>
        </p:nvPicPr>
        <p:blipFill>
          <a:blip r:embed="rId3"/>
          <a:stretch/>
        </p:blipFill>
        <p:spPr>
          <a:xfrm>
            <a:off x="142920" y="120600"/>
            <a:ext cx="571320" cy="593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678960" y="254160"/>
            <a:ext cx="186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harif University of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515520" y="648828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eneral Eng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7775640" y="65008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lide NO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</a:t>
            </a:r>
            <a:fld id="{5C65418D-AA5B-49B5-94C0-1E00D3F105B3}" type="slidenum"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500040" y="6499080"/>
            <a:ext cx="8286840" cy="180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1437480" y="4287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The Languag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 algn="r" rtl="1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A66-BFC1-4FF9-B38C-B8EB7469B59D}" type="slidenum">
              <a:rPr b="0" lang="fa-I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Title 1" descr=""/>
          <p:cNvPicPr/>
          <p:nvPr/>
        </p:nvPicPr>
        <p:blipFill>
          <a:blip r:embed="rId1"/>
          <a:stretch/>
        </p:blipFill>
        <p:spPr>
          <a:xfrm>
            <a:off x="920880" y="3273480"/>
            <a:ext cx="7869240" cy="1450800"/>
          </a:xfrm>
          <a:prstGeom prst="rect">
            <a:avLst/>
          </a:prstGeom>
          <a:ln w="0">
            <a:noFill/>
          </a:ln>
        </p:spPr>
      </p:pic>
      <p:pic>
        <p:nvPicPr>
          <p:cNvPr id="870" name="Rectangle 3" descr=""/>
          <p:cNvPicPr/>
          <p:nvPr/>
        </p:nvPicPr>
        <p:blipFill>
          <a:blip r:embed="rId2"/>
          <a:stretch/>
        </p:blipFill>
        <p:spPr>
          <a:xfrm>
            <a:off x="987480" y="774720"/>
            <a:ext cx="7662960" cy="14810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image003.png"/>
          <p:cNvPicPr/>
          <p:nvPr/>
        </p:nvPicPr>
        <p:blipFill>
          <a:blip r:embed="rId3"/>
          <a:stretch/>
        </p:blipFill>
        <p:spPr>
          <a:xfrm>
            <a:off x="4218120" y="2000160"/>
            <a:ext cx="1353960" cy="14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57200" y="205236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f the journal article has no name, but it has an author, and a publication da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f the website gives you a page number, but not a title or da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it (author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name, website title,date, etc.) use it, if you don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have it, you can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use i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Title 2" descr=""/>
          <p:cNvPicPr/>
          <p:nvPr/>
        </p:nvPicPr>
        <p:blipFill>
          <a:blip r:embed="rId1"/>
          <a:stretch/>
        </p:blipFill>
        <p:spPr>
          <a:xfrm>
            <a:off x="433440" y="334800"/>
            <a:ext cx="8289720" cy="1622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7200" y="2142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verbs, axioms, and saying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ll – known quotation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on knowled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Title 2" descr=""/>
          <p:cNvPicPr/>
          <p:nvPr/>
        </p:nvPicPr>
        <p:blipFill>
          <a:blip r:embed="rId1"/>
          <a:stretch/>
        </p:blipFill>
        <p:spPr>
          <a:xfrm>
            <a:off x="176040" y="781200"/>
            <a:ext cx="8791920" cy="115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2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457200" y="2266560"/>
            <a:ext cx="82296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arenthetical citations are placed within the text of your paper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elow are examples of how to cite print sources and electronic source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Title 2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In – take citations take form in one of three way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 (one option)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, followed by the date in parentheses, continuing with the rest of the sentence, and then ending the sentence with the page number in parenthes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1000" autoRev="1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57200" y="207144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 (another option):Author and date are mentioned in the sentence. This may occur when you don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mention the research the author has done but quote directly from her/hi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quote from text: Author, date, and page number in parentheses all follow the quoted materi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se sources are slightly different;because many electronic sources do not provide page numbers, you will want to cite either the paragraph number or the heading in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e the paragraph number after the year of publication and within the parenthesi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e the heading information after the date of publication and before the page numb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457200" y="219564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ference page will appear near the end of your document that is , after your study, report conclusion or literature review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ference page lists the bibliographic information for all the sources that you cited in your paper, not all works you have merely consult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Title 2" descr=""/>
          <p:cNvPicPr/>
          <p:nvPr/>
        </p:nvPicPr>
        <p:blipFill>
          <a:blip r:embed="rId1"/>
          <a:stretch/>
        </p:blipFill>
        <p:spPr>
          <a:xfrm>
            <a:off x="195120" y="781200"/>
            <a:ext cx="87537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page is not necessarily the last page in your paper; tables and appendices, if you have them, will come after the Reference pag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Title 2" descr=""/>
          <p:cNvPicPr/>
          <p:nvPr/>
        </p:nvPicPr>
        <p:blipFill>
          <a:blip r:embed="rId1"/>
          <a:stretch/>
        </p:blipFill>
        <p:spPr>
          <a:xfrm>
            <a:off x="195120" y="781200"/>
            <a:ext cx="87537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Rectangle 3" descr=""/>
          <p:cNvPicPr/>
          <p:nvPr/>
        </p:nvPicPr>
        <p:blipFill>
          <a:blip r:embed="rId1"/>
          <a:stretch/>
        </p:blipFill>
        <p:spPr>
          <a:xfrm>
            <a:off x="-579600" y="1884240"/>
            <a:ext cx="9590400" cy="404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itle 1" descr=""/>
          <p:cNvPicPr/>
          <p:nvPr/>
        </p:nvPicPr>
        <p:blipFill>
          <a:blip r:embed="rId1"/>
          <a:stretch/>
        </p:blipFill>
        <p:spPr>
          <a:xfrm>
            <a:off x="-115920" y="3456000"/>
            <a:ext cx="6510240" cy="148104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4"/>
          <p:cNvSpPr/>
          <p:nvPr/>
        </p:nvSpPr>
        <p:spPr>
          <a:xfrm>
            <a:off x="1812240" y="428760"/>
            <a:ext cx="59652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General English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Supp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57200" y="2195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we cite sour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needs to be ci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use parenthetical cit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create the reference p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tional APA style tips and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ck links to other APA reference sour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Title 2" descr=""/>
          <p:cNvPicPr/>
          <p:nvPr/>
        </p:nvPicPr>
        <p:blipFill>
          <a:blip r:embed="rId1"/>
          <a:stretch/>
        </p:blipFill>
        <p:spPr>
          <a:xfrm>
            <a:off x="420840" y="500040"/>
            <a:ext cx="824220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8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4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8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8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8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2195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handout has been designed to introduce you to the concepts and formats of APA cita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uthoritative coverage of APA style, see the publication Manual of the American psychological Association 5th 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Title 2" descr=""/>
          <p:cNvPicPr/>
          <p:nvPr/>
        </p:nvPicPr>
        <p:blipFill>
          <a:blip r:embed="rId1"/>
          <a:stretch/>
        </p:blipFill>
        <p:spPr>
          <a:xfrm>
            <a:off x="420840" y="500040"/>
            <a:ext cx="8242200" cy="145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457200" y="198072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ne purpose of citations is to leave a trail of clues for interested readers. When you document papers correctly, you provide others with a way to access the sources you have used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other purpose of citation is to promote ethical responsibility and academic consistency in a discipline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writing community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you do not cite and document your sources carefully, you run the risk of plagiarism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en you write a paper in the social sciences, you often use and build on information other people have researched and compiled.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ou need to documen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quo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phrases(rephrased or summarized materi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57200" y="205236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rases taken from source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ords specific or unique to the author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research, theories or idea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of an author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</a:rPr>
              <a:t>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 argument or line of think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5126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457200" y="2286000"/>
            <a:ext cx="822960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istorical, statistical, or scientific fact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ticles or studies you may refer to within your tex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Title 2" descr=""/>
          <p:cNvPicPr/>
          <p:nvPr/>
        </p:nvPicPr>
        <p:blipFill>
          <a:blip r:embed="rId1"/>
          <a:stretch/>
        </p:blipFill>
        <p:spPr>
          <a:xfrm>
            <a:off x="450720" y="762120"/>
            <a:ext cx="8242560" cy="117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31:18Z</dcterms:created>
  <dc:creator>Narjes</dc:creator>
  <dc:description/>
  <cp:keywords/>
  <dc:language>en-US</dc:language>
  <cp:lastModifiedBy>Narjes</cp:lastModifiedBy>
  <dcterms:modified xsi:type="dcterms:W3CDTF">2007-05-19T08:35:02Z</dcterms:modified>
  <cp:revision>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51033</vt:lpwstr>
  </property>
</Properties>
</file>